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C3ED-04F1-43E5-BD30-65108CFA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1613-2F37-4601-93F8-FAEAB72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A441-9F3E-4316-8DF9-AD9ED66A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9916-7EDE-4137-B836-C787C762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FD7-F286-4117-ADC6-9A05EFC0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4BFE-4B2D-4AC2-8DDF-BA140C5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CDCE-4BCD-4AAC-BEE4-0EE8D4FA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8C6-0A5B-4D90-B26E-279D6772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C59B-AF82-4A5D-8ADB-66D69AC2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60E-CBE1-4E06-869E-804F445C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0940-F0DA-4204-84AE-5009C1A0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6C31-64BB-4C17-93E1-886CDEB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FB4-DAC0-414B-BCF3-A2D0290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F860-A96E-42AB-B422-31269FB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0B6C-275A-4F41-BA22-2E74B4F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AE00-C784-4A36-B66D-AC75611C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550F-C965-4911-BB54-E6B0BA8A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9B26-0FC3-450F-9529-05D6E64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257B-AD97-4DA1-AB7F-C51B4540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5917-60FA-458F-8B69-FBEB7CA0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D199-87E9-451A-B05B-075D8C8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D92F-A1EA-4DAA-833D-82AFE38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D675-1548-45A1-B0F8-087CB899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8A77-AF0E-4F5D-BD94-BB9D26D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40E9-373C-4784-87A6-A215CB10E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F084-EDAE-44BB-9418-A358539D75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raven Terrace police Departm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y: Justin Tinne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24480" y="2590920"/>
            <a:ext cx="2229120" cy="15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66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3:18:14Z</dcterms:created>
  <dc:creator>NCDesk3</dc:creator>
  <dc:description/>
  <dc:language>en-US</dc:language>
  <cp:lastModifiedBy>NCDesk3</cp:lastModifiedBy>
  <dcterms:modified xsi:type="dcterms:W3CDTF">2012-02-17T13:31:47Z</dcterms:modified>
  <cp:revision>2</cp:revision>
  <dc:subject/>
  <dc:title>Craven Terrace police Department</dc:title>
</cp:coreProperties>
</file>